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BED-18F2-45FD-A4A1-5D722564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65D-7912-4DE6-A997-0D569B84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951-B395-4211-9127-3DA56722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05C-6001-4BD6-9F4B-7011B9C1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0921-5BD9-43A9-A53A-0C46BE83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DBBE-4124-4EE8-8713-E35225E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CECB-764A-448E-9FB6-3AE917E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378D-DBEC-40D5-8F5E-3115AF48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3C8-CA38-4A5E-A882-82918D0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364A-09D3-4A63-8CE8-BC4F744E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4D9D-7D9A-4771-8119-DFE242D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009-733C-4DF6-A193-94B1EEF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A531-CF33-4483-876B-6FA6924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E409-4551-46D7-B727-3BF5F15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0AD-9C84-486C-B640-DC5D88BD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6BB-1581-4203-B10B-AE9EE37A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1DD5-76DF-42F2-8953-4847A98F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C65-05DA-4F50-B89F-D0DD285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DF3-E308-42F8-B020-DA26D69B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AA3-C702-486D-AA3F-400681D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2ED-670A-4C6A-BD5C-A794CDE3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EF9-D8B0-43BB-9AD4-89FFB973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3F7-DD0C-4739-B030-B8C00B4E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006-E0DD-47EA-BC86-E042F18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E3AD-A4C9-4FF7-96F2-6B731E67B9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409B-438C-4898-B868-4F2C0CC5D3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Types of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carry out lab investigation or fiel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Collate, manipulate and analyse data from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sign and use a model or si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cide on your broad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enerate ideas for a focussed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Expectations for the Gro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October 31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November 21,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December 17,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9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June 10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Groups chosen, broad topic decided, ideas for Focussed research qu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ahoma"/>
              </a:rPr>
              <a:t>Approval Form Sub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Plan submitted to IB teac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Tahoma"/>
              </a:rPr>
              <a:t>Poster D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9900"/>
                </a:solidFill>
                <a:latin typeface="Tahoma"/>
              </a:rPr>
              <a:t>Poster Presentation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Develop and apply information and communication technolog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Raise awareness of the moral, ethical, social, economic and environmental im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Gain an appreciation for the overarching nature of the scientific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8ae"/>
                </a:solidFill>
                <a:latin typeface="Arial Black"/>
              </a:rPr>
              <a:t>Personal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User</cp:lastModifiedBy>
  <cp:lastPrinted>2009-04-22T19:24:48Z</cp:lastPrinted>
  <dcterms:modified xsi:type="dcterms:W3CDTF">2008-10-27T11:50:56Z</dcterms:modified>
  <cp:revision>45</cp:revision>
  <dc:subject/>
  <dc:title>PowerPoint Presentation</dc:title>
</cp:coreProperties>
</file>